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4.jpeg" ContentType="image/jpeg"/>
  <Override PartName="/ppt/media/image45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6.png" ContentType="image/png"/>
  <Override PartName="/ppt/media/image3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B999-D4EC-4440-AB24-7AAD510A5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Data_retrieval" TargetMode="External"/><Relationship Id="rId2" Type="http://schemas.openxmlformats.org/officeDocument/2006/relationships/hyperlink" Target="http://en.wikipedia.org/wiki/W3C" TargetMode="External"/><Relationship Id="rId3" Type="http://schemas.openxmlformats.org/officeDocument/2006/relationships/hyperlink" Target="http://en.wikipedia.org/wiki/Web_application" TargetMode="External"/><Relationship Id="rId4" Type="http://schemas.openxmlformats.org/officeDocument/2006/relationships/hyperlink" Target="http://en.wikipedia.org/wiki/HTML_form" TargetMode="External"/><Relationship Id="rId5" Type="http://schemas.openxmlformats.org/officeDocument/2006/relationships/slide" Target="../slides/slide36.xml"/><Relationship Id="rId6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Философският въпрос от предприемачеството: “Нещо ще успее само ако решава проблем, подобравя нещо съществуващо или разваля(унищожава ) друго нещо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6982-17C7-4380-9BFD-598926578F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Линкване в интер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файл, който да е сам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query.js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и ние да се грижим д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date-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а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39DF-AD03-4621-B1CF-ED2F9CACF1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reduce the number of objects and functions that are added to the global scope in our applications, using namespaces in JavaScript is definitely a recommended pract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3ED8-7C05-415A-8A3A-6864C67721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Различен начин на записване, но една и съща функционалн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Коя да изпозлваме – вие си решете, според мен 1-вата и то 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Този код върви – т.е няколк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cument.ready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може да имаме на страни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/ това е проблем ако сме със стария модел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.onload = …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ABD8-EB87-41D0-9578-68B3AFB420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ажен принцип в програмирането е да се осъзнае, че “Магии в програмирането НЯМА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ещо се случва защото има код които се изпълня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Доброт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bug-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ане е ключ към всич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Не подценявайте дебъгване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dReady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функцията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query-1.6.1.j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53B0-33C2-4B8E-AC4B-0D0F8ECBDF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ctor –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израз, който описава какво искаме да намерим на страниц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$() function (an alias for the jQuery() function) returns a special Java-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ipt object containing an array of the DOM elements that match the sele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object possesses a large number of useful predefined methods that can act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group of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rogramming parlance, this type of construct is termed a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wrapper because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aps the matching element(s) with extended functionality. We’ll use the te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jQuery wrapper or wrapped set to refer to this set of matched elements that can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ed on with the methods defined by jQu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8F8E-9562-4077-9CD9-266FBF9973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() – textbox – yes, div –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tr - dis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AFCA-CDC7-44B6-9DB4-A78863207B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   Requests a representation of the specified resource. Requests using GET (and a few other HTTP methods) "SHOULD NOT have the significance of taking an action other than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etriev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.</a:t>
            </a:r>
            <a:r>
              <a:rPr b="0" lang="en-US" sz="1200" spc="-1" strike="noStrike" u="sng" baseline="30000">
                <a:solidFill>
                  <a:srgbClr val="0000ff"/>
                </a:solidFill>
                <a:uFillTx/>
                <a:latin typeface="Calibri"/>
              </a:rPr>
              <a:t>[1]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3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as published guidance principles on this distinction, saying, "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eb applic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esign should be informed by the above principles, but also by the relevant limitations."</a:t>
            </a:r>
            <a:r>
              <a:rPr b="0" lang="en-US" sz="1200" spc="-1" strike="noStrike" u="sng" baseline="30000">
                <a:solidFill>
                  <a:srgbClr val="0000ff"/>
                </a:solidFill>
                <a:uFillTx/>
                <a:latin typeface="Calibri"/>
              </a:rPr>
              <a:t>[12]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ee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</a:rPr>
              <a:t>safe method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  Submits data to be processed (e.g., from an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ML for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to the identified resource. The data is included in the body of the request. This may result in the creation of a new resource or the updates of existing resources or bo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8911-380F-443A-AA0A-876A642C79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r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ring containing the URL to which the request is s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p or string that is sent to the server with the requ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mplete(responseText, textStatus, XMLHttpRequest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llback function that is executed when the request comple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91D3-D814-4FFB-A9C3-6DAE16A962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r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ring containing the URL to which the request is s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p or string that is sent to the server with the requ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uccess(data, textStatus, jqXHR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llback function that is executed if the request succee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ata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ype of data expected from the server. Default: Intelligent Guess (xml, json, script, or html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FA1B-C5A1-4359-A583-03D8B402ED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9BEF-A3F4-48EB-8737-9AB769CD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ED3D-3DD3-478E-855F-7802479B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474E2B-782B-4EB4-9F74-8B4AFDE8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70016D-8CB5-4BCE-B366-E13C7C4E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898039-6368-4693-84BC-F3AFA991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754880-480A-4BD2-8703-19086A2F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E189B8-0DFA-4072-B6F3-50D51F5A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734D8A-5013-40BB-844B-B71D7007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5E9E41-1554-4DAD-B06D-D3ADA10A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705F42-0D02-4107-8E60-B12AE4E6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74B7F6-E1B1-4EF5-9237-DDE1F5F5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5FF4-94D5-4961-A97F-6A02E866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DD71-A1DD-4C22-AB19-B755D69E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52533-81B8-46FE-A8D0-168F4173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8AEA4-0644-4AD5-ACE4-4EFAC124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960B6-A150-4E0B-AF41-0AF1D343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0628B-187C-49C5-A120-92A89037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E59AE-C426-47C7-91A8-355C38B7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3FE12-B894-4F2B-A121-CBFB64A9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4849A-F060-48DD-B61A-7E98FBD3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7816-9DD0-4D0B-AD13-C69E1586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9C5CB-5D6B-4F11-81D6-186D3881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B27B1-8321-47E9-8363-071070AC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500DA-5723-45C1-9A50-3AD75233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3FD65-7218-4172-9091-B555F4A3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363BF-A984-4DF0-A1BE-6ECB54B3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FC370-8AFF-485F-A733-D6D70282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C8BD8-216F-4610-9C92-9C5A28F6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7B393-FF31-4812-BE03-C7E30C78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9E8F5-DB86-4BB5-BFA9-8362C614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12D9C-31F4-4E67-8AB6-1807DBE6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81AA-F328-491D-9BBF-9DDCC540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4D9A9-FACD-45B8-B16D-23BE2FA8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648AC-0374-4F1B-A1F8-65ED854C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763B2-3E7D-4152-A49E-AD780702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D06F6-D958-423D-BFB9-11C33CD1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ADD0C-9CF3-4C1E-9E9F-AE62FFCF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D090E-3642-4D79-85E6-9B705E2A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2CF69-D0A2-4AEE-8BE7-10ADE24C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6C436C-9D4B-4C4C-8127-496ED142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0F30D6-B65C-431B-8A26-AF4F3D05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B86AB8-64E0-43B7-B404-B9CEBE87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17C8-6BA5-4783-ABA6-C09C9278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9BBC93-6CE3-4AB0-9508-43C7DF4A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B7259D-724B-48BF-8963-2BD8C072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2E6884-514D-451D-885A-7397FF1F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A90C3F-88C7-497C-BA05-D837449C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69E584-10D8-4D85-8265-DC73BE4B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E288C9-A928-49EE-B316-D0102AD3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18904B-9BA5-4B9C-A52F-73AEFE6A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A999B2-71E1-48C5-9BB3-8A16F3C13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9B8297-632E-488A-8B9F-2CF80300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1E0ED-6F41-46AC-BE6C-9A8BEC7B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6458-C4B7-4234-822E-904FC735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904B3-6CA2-4AD7-8744-CAD5C4C0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6CFB5-79EF-4FB8-9AE5-09A70AF0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F18E7-FEEE-400D-826E-13519ECB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76E87-4879-4F66-A5A9-A03C3714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5BEB9-BC91-4705-910A-F2A7FF8F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E5FB7-2438-438C-ACE3-2F68755B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8167E-7FA2-42BE-AC8E-539F470B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06622-4070-4F25-B3E6-26C23328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20042-FC77-41E2-8E1E-5BF86F66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2A602-2F4E-4CF0-A7AB-50D8D8FB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6AFE-824E-4A83-9741-A3937894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1C3BB-6648-467E-96D1-2255C1D2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B3611-EEAE-4ED3-9383-7D266638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70281-FF11-4DCE-88C7-43EAAB06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3BBD1-454E-4B56-9892-2D7D8875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14F89-6765-4331-9A82-55957A8B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89DED-5E4E-41BA-8987-16AC7AE9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6436F-0C8B-4A4A-9B25-3955D162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3718A-5F27-4BDB-9D3D-AD60674F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A2FE2-B931-4877-B123-381DC894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BB13C-AF1E-4AF5-9380-1F2BE19D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48FC-E747-46F1-8147-52605E14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A6E84-D52B-4CC8-80AE-DBBAA170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202F7-56AB-4A13-A417-A38AECC2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F282E-B715-4D3F-911D-60997D3A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FEC4B-9344-4A8C-B444-2A07C5AB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2F55E-1105-4308-8008-94AAE151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CB02E-97D0-4E72-9A2D-58739736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189F1-E6A1-45A8-8240-F239D3CD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21A6C-797A-4D05-9F78-5EB856F0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8C19C-DCA9-458B-86AB-929788EE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80EB8-005A-423D-851D-80616E49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0207-5B5B-42C0-ADDD-E5376413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52AE3-FF5E-4B87-9A43-032ABEB4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15350-B10E-4228-B360-4F910B71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129A9-3577-47FB-A291-72C1FB25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2FF51-F3ED-4C34-9A13-FB7A7C26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DB2F4-D737-4913-A23F-6B90090D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6650F0-67FA-4CFF-8CF6-93E8CB12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1E8A3B-EB86-4400-8558-3ED55056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5D585E-ABAD-4C87-BBAF-1CE9D825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195E43-25FA-4A46-A969-E0E94537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9669DE-321F-4219-882E-32DD314E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D7D6-E1BC-4066-B4F3-6202292A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3FA135-5D07-4077-84E2-BF8D0F69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DFA779-E340-41A3-98AD-CB9113ED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1A8544-3B06-4177-B2A9-669827F5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BA3DA2-FE43-49D4-8DC9-F35B31BF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CEDF5A-D979-484E-B548-095773FB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DC00C7-8588-45C6-9EB1-B6D5FE99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F2B317-A3C2-4E37-B58A-3AFF8277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BA5597-3B42-4FC4-BE05-785B32E9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9B65D3-C4F4-442E-B855-AB2D41D7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81B1A6-C487-43FB-8DAC-0717FCFA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E4C5-F5F7-4D06-B235-281C66DFFF4A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19D0-D00C-4EEE-8F8C-3D4A9AC0A8BF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369F-44BA-4F8A-A3A6-28B54BD4E7F3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7916-2DF0-4885-91FD-6BF723B41904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B4AA-B1CF-4155-A94F-0B11C65926E6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AA7F-A5DB-494E-AC0B-170C42637F56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00B0-1490-4F1A-A4C0-EC428705EDD7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C281-11C9-4A4A-9905-C2105236B4AC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3484-9F1A-4D29-B3B3-E5A4A57E98FF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378000" y="480960"/>
            <a:ext cx="8242200" cy="28908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2"/>
          <a:stretch/>
        </p:blipFill>
        <p:spPr>
          <a:xfrm>
            <a:off x="7162920" y="5486400"/>
            <a:ext cx="1755720" cy="114624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610840" cy="15112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eacb"/>
                </a:solidFill>
                <a:latin typeface="Cambria"/>
              </a:rPr>
              <a:t>Съвременно Уеб Програмиране с PHP 2011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e7eacb"/>
                </a:solidFill>
                <a:latin typeface="Cambria"/>
              </a:rPr>
              <a:t>Димчо Цанов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I :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&lt;button type="button" id="testButton"&gt;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Me  &lt;/button&gt;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indow.onload = function() {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document.getElementById('testButton').onclick =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makeItRed;   }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function makeItRed() {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document.getElementById('xyz').style.color = 'red'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Cambria"/>
              </a:rPr>
              <a:t>Демо 1</a:t>
            </a:r>
            <a:endParaRPr b="0" lang="en-US" sz="4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bg-BG" sz="3000" spc="-1" strike="noStrike">
                <a:solidFill>
                  <a:srgbClr val="ffffff"/>
                </a:solidFill>
                <a:latin typeface="Cambria"/>
              </a:rPr>
              <a:t>/ изпълнение на функция при зареждане на страницата /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bg-BG" sz="3000" spc="-1" strike="noStrike">
                <a:solidFill>
                  <a:srgbClr val="ffffff"/>
                </a:solidFill>
                <a:latin typeface="Cambria"/>
              </a:rPr>
              <a:t>Много неща които трябва да знаме …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Cambria"/>
              </a:rPr>
              <a:t>        </a:t>
            </a:r>
            <a:r>
              <a:rPr b="0" lang="bg-BG" sz="3000" spc="-1" strike="noStrike">
                <a:solidFill>
                  <a:srgbClr val="ffffff"/>
                </a:solidFill>
                <a:latin typeface="Cambria"/>
              </a:rPr>
              <a:t>- </a:t>
            </a: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document.attachEvent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Cambria"/>
              </a:rPr>
              <a:t>        </a:t>
            </a:r>
            <a:r>
              <a:rPr b="0" lang="bg-BG" sz="3000" spc="-1" strike="noStrike">
                <a:solidFill>
                  <a:srgbClr val="ffffff"/>
                </a:solidFill>
                <a:latin typeface="Cambria"/>
              </a:rPr>
              <a:t>- </a:t>
            </a: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document.addEventListener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Cambria"/>
              </a:rPr>
              <a:t>        </a:t>
            </a:r>
            <a:r>
              <a:rPr b="0" lang="bg-BG" sz="3000" spc="-1" strike="noStrike">
                <a:solidFill>
                  <a:srgbClr val="ffffff"/>
                </a:solidFill>
                <a:latin typeface="Cambria"/>
              </a:rPr>
              <a:t>- </a:t>
            </a: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XMLHttpObject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Cambria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/</a:t>
            </a:r>
            <a:r>
              <a:rPr b="0" lang="bg-BG" sz="30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new XMLHttpRequest(),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Cambria"/>
              </a:rPr>
              <a:t>             </a:t>
            </a: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new XDomainRequest() </a:t>
            </a:r>
            <a:r>
              <a:rPr b="0" lang="bg-BG" sz="3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/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Cambria"/>
              </a:rPr>
              <a:t>       </a:t>
            </a:r>
            <a:r>
              <a:rPr b="0" lang="bg-BG" sz="3000" spc="-1" strike="noStrike">
                <a:solidFill>
                  <a:srgbClr val="ffffff"/>
                </a:solidFill>
                <a:latin typeface="Cambria"/>
              </a:rPr>
              <a:t>- анимации …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Cambria"/>
              </a:rPr>
              <a:t>Много време за разработка 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Cambria"/>
              </a:rPr>
              <a:t>на голямо приложение  …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2"/>
          <a:stretch/>
        </p:blipFill>
        <p:spPr>
          <a:xfrm>
            <a:off x="6324480" y="3809880"/>
            <a:ext cx="240516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jQuery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MooTools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Dojo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Prototype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YUI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Ext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Cambria"/>
              </a:rPr>
              <a:t>  … …  … 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Cambria"/>
              </a:rPr>
              <a:t>Ако зависи от нас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bg-BG" sz="3000" spc="-1" strike="noStrike">
                <a:solidFill>
                  <a:srgbClr val="ffffff"/>
                </a:solidFill>
                <a:latin typeface="Cambria"/>
              </a:rPr>
              <a:t>- тази която отговаря на нашите нужди *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bg-BG" sz="3000" spc="-1" strike="noStrike">
                <a:solidFill>
                  <a:srgbClr val="ffffff"/>
                </a:solidFill>
                <a:latin typeface="Cambria"/>
              </a:rPr>
              <a:t>- този което ни е най-позната ( ако има )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bg-BG" sz="3000" spc="-1" strike="noStrike">
                <a:solidFill>
                  <a:srgbClr val="ffffff"/>
                </a:solidFill>
                <a:latin typeface="Cambria"/>
              </a:rPr>
              <a:t>- тази от която нашия съквартирант разбира (не го правете) 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bg-BG" sz="3000" spc="-1" strike="noStrike">
                <a:solidFill>
                  <a:srgbClr val="ffffff"/>
                </a:solidFill>
                <a:latin typeface="Cambria"/>
              </a:rPr>
              <a:t>- този която има най-добра документация, примери, безплатни ‘ неща ’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bg-BG" sz="3000" spc="-1" strike="noStrike">
                <a:solidFill>
                  <a:srgbClr val="ffffff"/>
                </a:solidFill>
                <a:latin typeface="Cambria"/>
              </a:rPr>
              <a:t>- друго …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Cambria"/>
              </a:rPr>
              <a:t>Ако сме във фирма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bg-BG" sz="3000" spc="-1" strike="noStrike">
                <a:solidFill>
                  <a:srgbClr val="ffffff"/>
                </a:solidFill>
                <a:latin typeface="Cambria"/>
              </a:rPr>
              <a:t>- избора често не е наш или е вече направен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http://jqueryvsmootools.com/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Rockwell"/>
              </a:rPr>
              <a:t>jQuery is a fast and concise JavaScript Library that simplifies HTML document traversing, event handling, animating, and Ajax interactions for rapid web development.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Rockwell"/>
              </a:rPr>
              <a:t>jQuery is designed to change the way that you write JavaScript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Rockwell"/>
              </a:rPr>
              <a:t>MooTools is a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Rockwell"/>
              </a:rPr>
              <a:t>compact, modular, Object-Oriented JavaScript framework designed for the intermediate to advanced JavaScript developer</a:t>
            </a:r>
            <a:r>
              <a:rPr b="0" i="1" lang="en-US" sz="2400" spc="-1" strike="noStrike">
                <a:solidFill>
                  <a:srgbClr val="ffffff"/>
                </a:solidFill>
                <a:latin typeface="Rockwell"/>
              </a:rPr>
              <a:t>. It allows you to write powerful, flexible, and cross-browser code with its elegant, well documented, and coherent API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създадена от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ohn Resig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през 2006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Настояща версия 1.6.1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ffffff"/>
                </a:solidFill>
                <a:latin typeface="Cambria"/>
              </a:rPr>
              <a:t>“ </a:t>
            </a:r>
            <a:r>
              <a:rPr b="0" i="1" lang="en-US" sz="3200" spc="-1" strike="noStrike">
                <a:solidFill>
                  <a:srgbClr val="ffffff"/>
                </a:solidFill>
                <a:latin typeface="Rockwell"/>
              </a:rPr>
              <a:t>It’s all about simplicity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Rockwell"/>
              </a:rPr>
              <a:t>Why should web developers be forced to write long, complex, book-length pieces of code when they want to create simple pieces of interaction?</a:t>
            </a:r>
            <a:r>
              <a:rPr b="0" i="1" lang="bg-BG" sz="3200" spc="-1" strike="noStrike">
                <a:solidFill>
                  <a:srgbClr val="ffffff"/>
                </a:solidFill>
                <a:latin typeface="Cambria"/>
              </a:rPr>
              <a:t>  … “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8" name="Picture 3" descr="images.jpg"/>
          <p:cNvPicPr/>
          <p:nvPr/>
        </p:nvPicPr>
        <p:blipFill>
          <a:blip r:embed="rId2"/>
          <a:stretch/>
        </p:blipFill>
        <p:spPr>
          <a:xfrm>
            <a:off x="6629400" y="16765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80080" indent="-28008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Как да се ‘сдобием’ с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Query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на нашета страницата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ttp://jquery.com/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query1.6.1.j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query-1.6.min.j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&lt;script</a:t>
            </a:r>
            <a:r>
              <a:rPr b="0" lang="bg-BG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rc="/jquery1.6.1.js"type="text/javascript“</a:t>
            </a:r>
            <a:r>
              <a:rPr b="0" lang="bg-BG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&lt;/script&gt;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$(document).ready(function () {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oStuffFunction();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});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jQuery(document).ready(function () {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oStuffFunction();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})</a:t>
            </a:r>
            <a:r>
              <a:rPr b="0" i="1" lang="en-US" sz="2800" spc="-1" strike="noStrike">
                <a:solidFill>
                  <a:srgbClr val="ffffff"/>
                </a:solidFill>
                <a:latin typeface="Rockwel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jQuery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Rockwell"/>
              </a:rPr>
              <a:t>– namespace, </a:t>
            </a:r>
            <a:r>
              <a:rPr b="1" lang="en-GB" sz="2800" spc="-1" strike="noStrike">
                <a:solidFill>
                  <a:srgbClr val="ffffff"/>
                </a:solidFill>
                <a:latin typeface="Rockwell"/>
              </a:rPr>
              <a:t>$</a:t>
            </a:r>
            <a:r>
              <a:rPr b="0" lang="bg-BG" sz="2800" spc="-1" strike="noStrike">
                <a:solidFill>
                  <a:srgbClr val="ffffff"/>
                </a:solidFill>
                <a:latin typeface="Cambria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hortcut for jQuery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680680" cy="11653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Query(document).ready(function () {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lert("1") } );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Query().ready(function () { alert("2") }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Query(function () { alert("3") }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Query(MyAlert);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Rockwell"/>
              </a:rPr>
              <a:t>function MyAlert() {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Rockwell"/>
              </a:rPr>
              <a:t>       </a:t>
            </a:r>
            <a:r>
              <a:rPr b="0" i="1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Rockwell"/>
              </a:rPr>
              <a:t>alert("MyAlert");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Rockwell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9047160" cy="1165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Cambria"/>
              </a:rPr>
              <a:t>Димчо Цанов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harePoint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програмист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&amp;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консултант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10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ambria"/>
              </a:rPr>
              <a:t>4 години опит с .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NE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4 </a:t>
            </a:r>
            <a:r>
              <a:rPr b="0" lang="bg-BG" sz="2600" spc="-1" strike="noStrike">
                <a:solidFill>
                  <a:srgbClr val="ffffff"/>
                </a:solidFill>
                <a:latin typeface="Cambria"/>
              </a:rPr>
              <a:t>различни фирми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/  Weblancers,  Telerik,  Vereo,  InterConsult  /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10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ambria"/>
              </a:rPr>
              <a:t>почти магистър ( ФМИ )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Фен на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Quer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Как е реализирана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ocument Ready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функцията 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bg-BG" sz="4800" spc="-1" strike="noStrike">
                <a:solidFill>
                  <a:srgbClr val="ffffff"/>
                </a:solidFill>
                <a:latin typeface="Cambria"/>
              </a:rPr>
              <a:t>Демо 2</a:t>
            </a:r>
            <a:endParaRPr b="0" lang="en-US" sz="4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2960" indent="-282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$(selector) 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или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Query(selector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2960" indent="-28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- пример 1:  $(“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 a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”)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2960" indent="-28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- пример 2: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$(“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#id_of_element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”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2960" indent="-28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- приме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$(“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css_class_name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”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2960" indent="-28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2960" indent="-282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Термините: </a:t>
            </a:r>
            <a:r>
              <a:rPr b="0" i="1" lang="en-US" sz="3200" spc="-1" strike="noStrike">
                <a:solidFill>
                  <a:srgbClr val="ffffff"/>
                </a:solidFill>
                <a:latin typeface="Rockwell"/>
              </a:rPr>
              <a:t>jQuery wrapper </a:t>
            </a:r>
            <a:r>
              <a:rPr b="0" i="1" lang="bg-BG" sz="32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Rockwell"/>
              </a:rPr>
              <a:t>wrapped se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2960" indent="-28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- функцията $()  връща масив от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JavaScript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обекти, които допълнителни или предефинирани методи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$(‘#id’)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d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на елемент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$(‘p’)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ag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име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$(‘.class’)      CSS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клас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$(‘p.class’)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&lt;p&gt;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имащ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SS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класа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clas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$(‘p:first’)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$(‘p:last’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$(‘p:eq(2)’)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-рия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&lt;p&gt;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елемент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(1 based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$(‘p’)[1]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-рия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&lt;p&gt;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елемент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(0 based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$(‘p:nth-child(3))</a:t>
            </a: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700" spc="-1" strike="noStrike">
                <a:solidFill>
                  <a:srgbClr val="ffffff"/>
                </a:solidFill>
                <a:latin typeface="Cambria"/>
              </a:rPr>
              <a:t>/ </a:t>
            </a: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gets the 3rd &lt;p&gt; element of the parent. n=even,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$(‘p:nth-child(5n+1)’)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7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gets the 1st element after every 5th one</a:t>
            </a:r>
            <a:r>
              <a:rPr b="0" lang="bg-BG" sz="2700" spc="-1" strike="noStrike">
                <a:solidFill>
                  <a:srgbClr val="ffffff"/>
                </a:solidFill>
                <a:latin typeface="Cambria"/>
              </a:rPr>
              <a:t>/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7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$(‘p a’)</a:t>
            </a: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&lt;a&gt; elements, descended from a &lt;p&gt;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7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$(‘p&gt;a’)</a:t>
            </a: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&lt;a&gt; elements, direct child of a &lt;p&gt;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7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$(‘p+a’)</a:t>
            </a: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&lt;a&gt; elements, directly following a &lt;p&gt;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7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$(‘p, a’)</a:t>
            </a: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&lt;p&gt; and &lt;a&gt; elements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$(‘li:has(ul)’)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&lt;li&gt; elements that have at least one &lt;ul&gt; descenden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$(‘:not(p)’)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ll elements but &lt;p&gt; element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$(‘p:hidden’)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nly &lt;p&gt; elements that are hidd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$(‘p:empty’)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&lt;p&gt; elements that have no child element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Вграден начин за автоматично итериране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$(‘#slideshow img’).hide();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Верижност при изпълнението на операции  /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haining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 /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$(‘#popUp’).width(300).height(300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text(‘Message’).fadeIn(1000);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bg-BG" sz="4800" spc="-1" strike="noStrike">
                <a:solidFill>
                  <a:srgbClr val="ffffff"/>
                </a:solidFill>
                <a:latin typeface="Cambria"/>
              </a:rPr>
              <a:t>Демо 3</a:t>
            </a:r>
            <a:endParaRPr b="0" lang="en-US" sz="4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-22392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.html</a:t>
            </a:r>
            <a:r>
              <a:rPr b="0" lang="bg-BG" sz="2600" spc="-1" strike="noStrike">
                <a:solidFill>
                  <a:srgbClr val="ffffff"/>
                </a:solidFill>
                <a:latin typeface="Cambria"/>
              </a:rPr>
              <a:t>    -  еквивалентна на 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innerHtm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3" marL="984600" indent="-17856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$("#someElement").html("added some text ")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3" marL="984600" indent="-17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ambria"/>
              </a:rPr>
              <a:t>                                   </a:t>
            </a:r>
            <a:r>
              <a:rPr b="0" lang="bg-BG" sz="2400" spc="-1" strike="noStrike">
                <a:solidFill>
                  <a:srgbClr val="ffffff"/>
                </a:solidFill>
                <a:latin typeface="Cambria"/>
              </a:rPr>
              <a:t>ИЛИ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3" marL="984600" indent="-17856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$("#someElement")[0].innerHTML =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3" marL="984600" indent="-1785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added some text"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3" marL="984600" indent="-1785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984600" indent="-17856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$("div.fillMeIn") .html("added some text ")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3" marL="984600" indent="-17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bg-BG" sz="2400" spc="-1" strike="noStrike">
                <a:solidFill>
                  <a:srgbClr val="ffffff"/>
                </a:solidFill>
                <a:latin typeface="Cambria"/>
              </a:rPr>
              <a:t>или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3" marL="984600" indent="-17856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var elements = $("div.fillMeIn")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2" marL="805680" indent="-186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0" lang="bg-BG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for(i=0;</a:t>
            </a:r>
            <a:r>
              <a:rPr b="0" lang="bg-BG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&lt;elements.length;</a:t>
            </a:r>
            <a:r>
              <a:rPr b="0" lang="bg-BG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++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2" marL="805680" indent="-186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ambri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elements[i].innerHTML ="added some text "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3" marL="984600" indent="-1785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ddClass (‘class’)</a:t>
            </a:r>
            <a:r>
              <a:rPr b="0" lang="bg-BG" sz="26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.removeClass(‘class’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ttr   - </a:t>
            </a:r>
            <a:r>
              <a:rPr b="0" lang="bg-BG" sz="2600" spc="-1" strike="noStrike">
                <a:solidFill>
                  <a:srgbClr val="ffffff"/>
                </a:solidFill>
                <a:latin typeface="Cambria"/>
              </a:rPr>
              <a:t>чете / променя атрибут на елемент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var attributeinfo=$(‘#banner img’).attr(‘src’);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$(‘#banner img’).attr(‘src’,’/images/new.png’);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.css</a:t>
            </a:r>
            <a:r>
              <a:rPr b="0" lang="bg-BG" sz="2600" spc="-1" strike="noStrike">
                <a:solidFill>
                  <a:srgbClr val="ffffff"/>
                </a:solidFill>
                <a:latin typeface="Cambria"/>
              </a:rPr>
              <a:t> (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roperty,value</a:t>
            </a:r>
            <a:r>
              <a:rPr b="0" lang="bg-BG" sz="2600" spc="-1" strike="noStrike">
                <a:solidFill>
                  <a:srgbClr val="ffffff"/>
                </a:solidFill>
                <a:latin typeface="Cambria"/>
              </a:rPr>
              <a:t>) - променя 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SS </a:t>
            </a:r>
            <a:r>
              <a:rPr b="0" lang="bg-BG" sz="2600" spc="-1" strike="noStrike">
                <a:solidFill>
                  <a:srgbClr val="ffffff"/>
                </a:solidFill>
                <a:latin typeface="Cambria"/>
              </a:rPr>
              <a:t>свойство(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roperty</a:t>
            </a:r>
            <a:r>
              <a:rPr b="0" lang="bg-BG" sz="26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$(‘body’).css(‘padding’,50);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.text()</a:t>
            </a:r>
            <a:r>
              <a:rPr b="0" lang="bg-BG" sz="2600" spc="-1" strike="noStrike">
                <a:solidFill>
                  <a:srgbClr val="ffffff"/>
                </a:solidFill>
                <a:latin typeface="Cambria"/>
              </a:rPr>
              <a:t>                    .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ide(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.val()                   .show(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Rockwell"/>
              </a:rPr>
              <a:t>.animate( properties, [ duration ], [ easing ], [ complete ] )  - </a:t>
            </a:r>
            <a:r>
              <a:rPr b="1" lang="bg-BG" sz="2600" spc="-1" strike="noStrike">
                <a:solidFill>
                  <a:srgbClr val="ffffff"/>
                </a:solidFill>
                <a:latin typeface="Cambria"/>
              </a:rPr>
              <a:t>сигнатура на функцията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Rockwell"/>
              </a:rPr>
              <a:t>animate( properties, options )</a:t>
            </a:r>
            <a:r>
              <a:rPr b="1" lang="bg-BG" sz="2600" spc="-1" strike="noStrike">
                <a:solidFill>
                  <a:srgbClr val="ffffff"/>
                </a:solidFill>
                <a:latin typeface="Cambria"/>
              </a:rPr>
              <a:t> – най-използван вариант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ttp://api.jquery.com/animate/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10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bg-BG" sz="4800" spc="-1" strike="noStrike">
                <a:solidFill>
                  <a:srgbClr val="ffffff"/>
                </a:solidFill>
                <a:latin typeface="Cambria"/>
              </a:rPr>
              <a:t>Демо 4</a:t>
            </a:r>
            <a:endParaRPr b="0" lang="en-US" sz="4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Принципи и конвенции при писане на </a:t>
            </a:r>
            <a:r>
              <a:rPr b="0" lang="en-GB" sz="3200" spc="-1" strike="noStrike">
                <a:solidFill>
                  <a:srgbClr val="ffffff"/>
                </a:solidFill>
                <a:latin typeface="Rockwell"/>
              </a:rPr>
              <a:t>JavaScrip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Проблеми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Библиотеки за работа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avaScrip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Quer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Query Plugin-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Query UI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биллиотеката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Пример на реален сайт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-2858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Какво можем да правим с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Query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26760" indent="-223920">
              <a:lnSpc>
                <a:spcPct val="10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ambria"/>
              </a:rPr>
              <a:t>Намиераме (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lect</a:t>
            </a:r>
            <a:r>
              <a:rPr b="0" lang="bg-BG" sz="2600" spc="-1" strike="noStrike">
                <a:solidFill>
                  <a:srgbClr val="ffffff"/>
                </a:solidFill>
                <a:latin typeface="Cambria"/>
              </a:rPr>
              <a:t>)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bg-BG" sz="2600" spc="-1" strike="noStrike">
                <a:solidFill>
                  <a:srgbClr val="ffffff"/>
                </a:solidFill>
                <a:latin typeface="Cambria"/>
              </a:rPr>
              <a:t>елементи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26760" indent="-223920">
              <a:lnSpc>
                <a:spcPct val="10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ambria"/>
              </a:rPr>
              <a:t>Променяме стойностите на елементи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26760" indent="-223920">
              <a:lnSpc>
                <a:spcPct val="10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ambria"/>
              </a:rPr>
              <a:t>Подменяме елементи (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replace</a:t>
            </a:r>
            <a:r>
              <a:rPr b="0" lang="bg-BG" sz="26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26760" indent="-223920">
              <a:lnSpc>
                <a:spcPct val="10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ambria"/>
              </a:rPr>
              <a:t>Премахваме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26760" indent="-223920">
              <a:lnSpc>
                <a:spcPct val="10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ambria"/>
              </a:rPr>
              <a:t>Променяме стойности на атрибути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26760" indent="-223920">
              <a:lnSpc>
                <a:spcPct val="10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ambria"/>
              </a:rPr>
              <a:t>Добавяме и махане класове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26760" indent="-223920">
              <a:lnSpc>
                <a:spcPct val="10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ambria"/>
              </a:rPr>
              <a:t>Промяна на 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SS propert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26760" indent="-223920">
              <a:lnSpc>
                <a:spcPct val="10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ambria"/>
              </a:rPr>
              <a:t>Анимации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26760" indent="-223920">
              <a:lnSpc>
                <a:spcPct val="10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ambria"/>
              </a:rPr>
              <a:t> …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26760" indent="-223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26760" indent="-22392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ambria"/>
              </a:rPr>
              <a:t>Събития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Mouse Events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click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dblclick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mousedown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mouseup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mouseover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mouseout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Document Window Events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Load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Resize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Scroll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Unload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Form Events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Submit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Reset - button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Change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Focus – enter a field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Blur – exit a field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Rockwell"/>
              </a:rPr>
              <a:t>Events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Keyboard Events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keypress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keydown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Keyup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Rockwell"/>
              </a:rPr>
              <a:t>Using Events with Jquery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1) Select elemen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2) Assign an even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$(‘a’).mouseover(); - adds mousever to every link 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3) Pass a function to even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$(‘a’).mouseover(startSomething());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Or pass an anonymous function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$(‘a’).mouseover (function() {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Function Code here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});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var xhr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f (window.XMLHttpRequest) {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xhr = new XMLHttpRequest()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else if (window.ActiveXObject) {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xhr = new ActiveXObject("Msxml2.XMLHTTP")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else {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hrow new Error("Ajax is not supported by this browser")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Инициализиране на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eques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. Specify the HTTP method such as (POST or GET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2. Provide the URL of the server-side resource to be contacted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. Let the XHR instance know how it can inform us of its progres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4. Provide any body content for POST request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ET    Requests a representation of the specified resource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/ sent data as a request param /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OST   Submits data to be processed (e.g., from an HTML form) to the identified resource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/ sent data in the body request /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78" name="Content Placeholder 3" descr="post get.png"/>
          <p:cNvPicPr/>
          <p:nvPr/>
        </p:nvPicPr>
        <p:blipFill>
          <a:blip r:embed="rId2"/>
          <a:stretch/>
        </p:blipFill>
        <p:spPr>
          <a:xfrm>
            <a:off x="380880" y="1523880"/>
            <a:ext cx="8382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Query.ajax(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Query.get(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Query.post(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load(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Query.getJSON(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Пълен списък: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ttp://api.jquery.com/category/ajax/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.load( url,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[ data ],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[ complete(responseText,   textStatus, XMLHttpRequest) ] 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Cambria"/>
              </a:rPr>
              <a:t>Примери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$('#result').load('ajax/test.html');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$('#result').load('ajax/test.html',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Cambri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unction() { alert('Load was performed.'); });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Cambria"/>
              </a:rPr>
              <a:t>$.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get( url,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Cambria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[ data ],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Cambria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[ success(data, textStatus, jqXHR) ],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Cambria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[ dataType ] 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Cambria"/>
              </a:rPr>
              <a:t>Пример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$.get('ajax/test.html',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unction(data) {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$('.result').html(data);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lert('Load was performed.');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});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Използвайте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avaScript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библиотеки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avaScript-a</a:t>
            </a:r>
            <a:r>
              <a:rPr b="0" lang="en-GB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не е ‘ страшен ’  при правилна употреба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Разбиране на принципа и употребата на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Query,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а не толкова синтаксиса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JAX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       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как – е лесно,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       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кога и защо - е трудно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$.post( url,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[ data ],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[ success(data, textStatus, jqXHR) ], 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[ dataType ] 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Cambria"/>
              </a:rPr>
              <a:t>Пример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$.post('ajax/test.html', function(data) { $('.result').html(data); });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        </a:t>
            </a:r>
            <a:r>
              <a:rPr b="1" lang="bg-BG" sz="4800" spc="-1" strike="noStrike">
                <a:solidFill>
                  <a:srgbClr val="ffffff"/>
                </a:solidFill>
                <a:latin typeface="Cambria"/>
              </a:rPr>
              <a:t>Демо 5</a:t>
            </a:r>
            <a:r>
              <a:rPr b="1" lang="en-US" sz="4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       </a:t>
            </a:r>
            <a:r>
              <a:rPr b="0" lang="bg-BG" sz="3600" spc="-1" strike="noStrike">
                <a:solidFill>
                  <a:srgbClr val="ffffff"/>
                </a:solidFill>
                <a:latin typeface="Cambria"/>
              </a:rPr>
              <a:t>/ $.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post, $.get, $.load</a:t>
            </a:r>
            <a:r>
              <a:rPr b="0" lang="bg-BG" sz="3600" spc="-1" strike="noStrike">
                <a:solidFill>
                  <a:srgbClr val="ffffff"/>
                </a:solidFill>
                <a:latin typeface="Cambria"/>
              </a:rPr>
              <a:t> /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-2858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Cambria"/>
              </a:rPr>
              <a:t>$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.ajax( url, [ settings ] </a:t>
            </a:r>
            <a:r>
              <a:rPr b="1" lang="bg-BG" sz="32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Пример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$.ajax({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ype: "POST",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url: “</a:t>
            </a:r>
            <a:r>
              <a:rPr b="0" lang="bg-BG" sz="28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omeURL/data.aspx",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ata: "{empid: " + empid + "}",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ontentType: “</a:t>
            </a:r>
            <a:r>
              <a:rPr b="0" lang="bg-BG" sz="2800" spc="-1" strike="noStrike">
                <a:solidFill>
                  <a:srgbClr val="ffffff"/>
                </a:solidFill>
                <a:latin typeface="Cambria"/>
              </a:rPr>
              <a:t>….”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ataType: "json",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uccess: function (result) { alert(result.d); }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});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-185040"/>
            <a:ext cx="8229600" cy="7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7eacb"/>
              </a:solidFill>
              <a:latin typeface="Rockwell"/>
            </a:endParaRPr>
          </a:p>
        </p:txBody>
      </p:sp>
      <p:pic>
        <p:nvPicPr>
          <p:cNvPr id="492" name="Content Placeholder 3" descr="ajax1.png"/>
          <p:cNvPicPr/>
          <p:nvPr/>
        </p:nvPicPr>
        <p:blipFill>
          <a:blip r:embed="rId1"/>
          <a:stretch/>
        </p:blipFill>
        <p:spPr>
          <a:xfrm>
            <a:off x="380880" y="762120"/>
            <a:ext cx="8458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Content Placeholder 3" descr="ajax2.png"/>
          <p:cNvPicPr/>
          <p:nvPr/>
        </p:nvPicPr>
        <p:blipFill>
          <a:blip r:embed="rId1"/>
          <a:stretch/>
        </p:blipFill>
        <p:spPr>
          <a:xfrm>
            <a:off x="457200" y="920880"/>
            <a:ext cx="82296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Content Placeholder 3" descr="ajax3.png"/>
          <p:cNvPicPr/>
          <p:nvPr/>
        </p:nvPicPr>
        <p:blipFill>
          <a:blip r:embed="rId1"/>
          <a:stretch/>
        </p:blipFill>
        <p:spPr>
          <a:xfrm>
            <a:off x="457200" y="679320"/>
            <a:ext cx="822960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$.post </a:t>
            </a:r>
            <a:r>
              <a:rPr b="0" lang="bg-BG" sz="2400" spc="-1" strike="noStrike">
                <a:solidFill>
                  <a:srgbClr val="ffffff"/>
                </a:solidFill>
                <a:latin typeface="Cambria"/>
              </a:rPr>
              <a:t>реализирана с $.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ajax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$.ajax({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ype: "POST",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url: “</a:t>
            </a:r>
            <a:r>
              <a:rPr b="0" lang="bg-BG" sz="24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omeURL/data.aspx",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data: "{empid: " + empid + "}",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ontentType: "application/json; charset=utf-8",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dataType: "json",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uccess: function (result) { alert(result.d); }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})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Rockwell"/>
              </a:rPr>
              <a:t>$.get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реализирана с $.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jax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Rockwell"/>
              </a:rPr>
              <a:t>$.ajax({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Rockwell"/>
              </a:rPr>
              <a:t>url: </a:t>
            </a:r>
            <a:r>
              <a:rPr b="0" i="1" lang="it-IT" sz="3200" spc="-1" strike="noStrike">
                <a:solidFill>
                  <a:srgbClr val="ffffff"/>
                </a:solidFill>
                <a:latin typeface="Rockwell"/>
              </a:rPr>
              <a:t>url</a:t>
            </a:r>
            <a:r>
              <a:rPr b="0" lang="it-IT" sz="3200" spc="-1" strike="noStrike">
                <a:solidFill>
                  <a:srgbClr val="ffffff"/>
                </a:solidFill>
                <a:latin typeface="Rockwel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Rockwell"/>
              </a:rPr>
              <a:t>data: </a:t>
            </a:r>
            <a:r>
              <a:rPr b="0" i="1" lang="it-IT" sz="3200" spc="-1" strike="noStrike">
                <a:solidFill>
                  <a:srgbClr val="ffffff"/>
                </a:solidFill>
                <a:latin typeface="Rockwell"/>
              </a:rPr>
              <a:t>data</a:t>
            </a:r>
            <a:r>
              <a:rPr b="0" lang="it-IT" sz="3200" spc="-1" strike="noStrike">
                <a:solidFill>
                  <a:srgbClr val="ffffff"/>
                </a:solidFill>
                <a:latin typeface="Rockwel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Rockwell"/>
              </a:rPr>
              <a:t>success: </a:t>
            </a:r>
            <a:r>
              <a:rPr b="0" i="1" lang="it-IT" sz="3200" spc="-1" strike="noStrike">
                <a:solidFill>
                  <a:srgbClr val="ffffff"/>
                </a:solidFill>
                <a:latin typeface="Rockwell"/>
              </a:rPr>
              <a:t>success</a:t>
            </a:r>
            <a:r>
              <a:rPr b="0" lang="it-IT" sz="3200" spc="-1" strike="noStrike">
                <a:solidFill>
                  <a:srgbClr val="ffffff"/>
                </a:solidFill>
                <a:latin typeface="Rockwel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Rockwell"/>
              </a:rPr>
              <a:t>dataType: </a:t>
            </a:r>
            <a:r>
              <a:rPr b="0" i="1" lang="it-IT" sz="3200" spc="-1" strike="noStrike">
                <a:solidFill>
                  <a:srgbClr val="ffffff"/>
                </a:solidFill>
                <a:latin typeface="Rockwell"/>
              </a:rPr>
              <a:t>dataType</a:t>
            </a:r>
            <a:r>
              <a:rPr b="0" lang="it-IT" sz="3200" spc="-1" strike="noStrike">
                <a:solidFill>
                  <a:srgbClr val="ffffff"/>
                </a:solidFill>
                <a:latin typeface="Rockwell"/>
              </a:rPr>
              <a:t> });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71440" indent="-271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Безплатни  !!!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Добре документирани (повечето от тях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Лесни за употреба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Не е нужно да знаем как работят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Някой е свършил нашета работа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ttp://jqueryui.com/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03" name="Picture 3" descr="Untitled1.png"/>
          <p:cNvPicPr/>
          <p:nvPr/>
        </p:nvPicPr>
        <p:blipFill>
          <a:blip r:embed="rId2"/>
          <a:stretch/>
        </p:blipFill>
        <p:spPr>
          <a:xfrm>
            <a:off x="0" y="2590920"/>
            <a:ext cx="914400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4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Модела на клиент/сървър приложени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Сървър: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hp, java, .NET, .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Клиент: браузър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/ липса на единен стандарт /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Средства за работа на Клиента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S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avaScrip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- </a:t>
            </a:r>
            <a:r>
              <a:rPr b="0" lang="en-GB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манипулации на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O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- 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визуални ефекти и анимации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- 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логика на приложението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- 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асинхронни обръщения към сървъра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Cambria"/>
              </a:rPr>
              <a:t>Демо 6</a:t>
            </a:r>
            <a:endParaRPr b="0" lang="en-US" sz="4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600" spc="-1" strike="noStrike">
                <a:solidFill>
                  <a:srgbClr val="ffffff"/>
                </a:solidFill>
                <a:latin typeface="Cambria"/>
              </a:rPr>
              <a:t>       </a:t>
            </a:r>
            <a:r>
              <a:rPr b="0" lang="bg-BG" sz="6600" spc="-1" strike="noStrike">
                <a:solidFill>
                  <a:srgbClr val="ffffff"/>
                </a:solidFill>
                <a:latin typeface="Cambria"/>
              </a:rPr>
              <a:t>Въпроси ?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Content Placeholder 3" descr="Picture2.jpg"/>
          <p:cNvPicPr/>
          <p:nvPr/>
        </p:nvPicPr>
        <p:blipFill>
          <a:blip r:embed="rId1"/>
          <a:stretch/>
        </p:blipFill>
        <p:spPr>
          <a:xfrm>
            <a:off x="1171440" y="1646280"/>
            <a:ext cx="6801120" cy="4525920"/>
          </a:xfrm>
          <a:prstGeom prst="rect">
            <a:avLst/>
          </a:prstGeom>
          <a:ln w="0">
            <a:noFill/>
          </a:ln>
        </p:spPr>
      </p:pic>
      <p:pic>
        <p:nvPicPr>
          <p:cNvPr id="509" name="Title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13" name="Content Placeholder 7" descr="1.jpg"/>
          <p:cNvPicPr/>
          <p:nvPr/>
        </p:nvPicPr>
        <p:blipFill>
          <a:blip r:embed="rId2"/>
          <a:stretch/>
        </p:blipFill>
        <p:spPr>
          <a:xfrm>
            <a:off x="1219320" y="2362320"/>
            <a:ext cx="2438280" cy="28573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0,,3136073_4,00.jpg"/>
          <p:cNvPicPr/>
          <p:nvPr/>
        </p:nvPicPr>
        <p:blipFill>
          <a:blip r:embed="rId3"/>
          <a:stretch/>
        </p:blipFill>
        <p:spPr>
          <a:xfrm>
            <a:off x="5105520" y="2362320"/>
            <a:ext cx="2971800" cy="2819160"/>
          </a:xfrm>
          <a:prstGeom prst="rect">
            <a:avLst/>
          </a:prstGeom>
          <a:ln w="0">
            <a:noFill/>
          </a:ln>
        </p:spPr>
      </p:pic>
      <p:pic>
        <p:nvPicPr>
          <p:cNvPr id="415" name="Title 1" descr=""/>
          <p:cNvPicPr/>
          <p:nvPr/>
        </p:nvPicPr>
        <p:blipFill>
          <a:blip r:embed="rId4"/>
          <a:stretch/>
        </p:blipFill>
        <p:spPr>
          <a:xfrm>
            <a:off x="1627200" y="5376960"/>
            <a:ext cx="1805040" cy="963360"/>
          </a:xfrm>
          <a:prstGeom prst="rect">
            <a:avLst/>
          </a:prstGeom>
          <a:ln w="0">
            <a:noFill/>
          </a:ln>
        </p:spPr>
      </p:pic>
      <p:pic>
        <p:nvPicPr>
          <p:cNvPr id="416" name="Title 1" descr=""/>
          <p:cNvPicPr/>
          <p:nvPr/>
        </p:nvPicPr>
        <p:blipFill>
          <a:blip r:embed="rId5"/>
          <a:stretch/>
        </p:blipFill>
        <p:spPr>
          <a:xfrm>
            <a:off x="5662440" y="5376960"/>
            <a:ext cx="188460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Unobtrusive JavaScript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- подход за разделение м/у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avaScript </a:t>
            </a: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и съдържание на страниц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mbria"/>
              </a:rPr>
              <a:t>Разделение м/у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avaScript, CSS, HTM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71440" indent="-271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 :  &lt;div style="margin-left:10px; padding-top:10px; </a:t>
            </a:r>
            <a:r>
              <a:rPr b="0" lang="bg-BG" sz="2400" spc="-1" strike="noStrike">
                <a:solidFill>
                  <a:srgbClr val="ffffff"/>
                </a:solidFill>
                <a:latin typeface="Cambri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olor:Red"&gt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ambria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&lt;input type="text"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ambria"/>
              </a:rPr>
              <a:t>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name="date"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ambri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bg-BG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onchange="validate ()" /&gt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&lt;/div&gt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I :  &lt;butto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ambria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ype="button"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ambria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onclick="document.getElementById('xyz')</a:t>
            </a:r>
            <a:r>
              <a:rPr b="0" lang="bg-BG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style.color='red';"&gt;</a:t>
            </a:r>
            <a:r>
              <a:rPr b="0" lang="bg-BG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lick M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&lt;/button&gt; </a:t>
            </a: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50920" indent="-2509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 :  &lt;div class=“myclass”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50920" indent="-250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ambria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bg-BG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&lt;input type="text"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50920" indent="-250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ambri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name="date"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50920" indent="-250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ambria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d="date“  /&gt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50920" indent="-250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&lt;/div&gt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50920" indent="-250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…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50920" indent="-250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50920" indent="-250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document.addEventListener(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50920" indent="-250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'DOMContentLoaded', 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50920" indent="-250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function() {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50920" indent="-250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document.getElementById('date'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50920" indent="-250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addEventListener('change', </a:t>
            </a: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validate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false); },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 false);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50920" indent="-250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50920" indent="-25092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6:03:36Z</dcterms:created>
  <dc:creator>perks</dc:creator>
  <dc:description/>
  <dc:language>en-US</dc:language>
  <cp:lastModifiedBy>kamikadze</cp:lastModifiedBy>
  <dcterms:modified xsi:type="dcterms:W3CDTF">2011-06-03T14:03:53Z</dcterms:modified>
  <cp:revision>233</cp:revision>
  <dc:subject/>
  <dc:title>JavaScript</dc:title>
</cp:coreProperties>
</file>